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8118-9CD2-489E-A912-E0075DA4A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A19D-B1DB-4FCA-8E8C-D0B7900B5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DB106-CA65-4ECD-9686-910C6884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C417B-677B-4EE7-B2A0-FDDCD86E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22436-5983-4192-B320-693FD132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3AB2B-D00C-48D3-92F9-F3BF7C5D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8EEA-BF61-4A1E-8263-D0B1F4C3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B5DE-5A59-4C74-9E6F-88F4600C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C597-A6C0-43F9-AE1B-1F61C068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96A5-8351-4169-A30D-610B5DD8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5549-2532-4AB3-8677-4111F256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117D-E878-4E4E-8A9A-E51E9295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D650-BBF5-43C2-9F82-38DD1B8B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0AEAF-3244-4391-A489-BD84DADF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8F43-ED62-44D2-8D6A-8ECDEE90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B3E7-9D5D-45CA-B0C5-035D0498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07CE-D626-480C-9D80-02D1A32B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83A2-7C40-45C6-ABB4-E6CD9A08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C249-739D-4A6D-9C02-6D50D7EB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0EA4-7B2D-4D44-85CD-20896676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FE17E-6DC2-407D-90EB-4AF57F82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7785F-E5FA-4D62-9606-2664077E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CEDEF-417A-4F8B-BFCF-37487216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574B8-D61E-49D8-B6C9-F3C56C60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E095B-56BE-438B-ABF7-993CC971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BD0C4-187B-437E-982B-C37EB62E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B67D-C228-4EC0-AAB9-D7FD8338CB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5DF0-85FF-43D4-89A9-A784F30B04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TER LINE UNIFIED POWER QUALITY CONDITIONER</a:t>
            </a:r>
            <a:br>
              <a:rPr sz="4000"/>
            </a:br>
            <a:br>
              <a:rPr sz="66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495320" y="4419720"/>
            <a:ext cx="4343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DLI AGAI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AN DONTHARABO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SYSTEM RESPONSE WITH OUT IUP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ject 2" descr=""/>
          <p:cNvPicPr/>
          <p:nvPr/>
        </p:nvPicPr>
        <p:blipFill>
          <a:blip r:embed="rId1"/>
          <a:srcRect l="-1444" t="-176" r="0" b="-2034"/>
          <a:stretch/>
        </p:blipFill>
        <p:spPr>
          <a:xfrm>
            <a:off x="1447920" y="2438280"/>
            <a:ext cx="6095880" cy="36576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2367000" y="62478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bc_31,kv(voltage at third bus on feeder-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4" descr=""/>
          <p:cNvPicPr/>
          <p:nvPr/>
        </p:nvPicPr>
        <p:blipFill>
          <a:blip r:embed="rId1"/>
          <a:srcRect l="-1556" t="-173" r="0" b="-1799"/>
          <a:stretch/>
        </p:blipFill>
        <p:spPr>
          <a:xfrm>
            <a:off x="838080" y="1371600"/>
            <a:ext cx="6934320" cy="4343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2290680" y="586656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bc_21,A(current at second bus on feeder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SYSTEM RESPONSE WITH  IUPQ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13" descr=""/>
          <p:cNvPicPr/>
          <p:nvPr/>
        </p:nvPicPr>
        <p:blipFill>
          <a:blip r:embed="rId1"/>
          <a:srcRect l="-1556" t="-1958" r="0" b="-2126"/>
          <a:stretch/>
        </p:blipFill>
        <p:spPr>
          <a:xfrm>
            <a:off x="1219320" y="1905120"/>
            <a:ext cx="7010280" cy="3728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367000" y="594288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bc_31,kv(voltage at third bus on feeder-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16" descr=""/>
          <p:cNvPicPr/>
          <p:nvPr/>
        </p:nvPicPr>
        <p:blipFill>
          <a:blip r:embed="rId1"/>
          <a:srcRect l="-1556" t="-878" r="0" b="-2038"/>
          <a:stretch/>
        </p:blipFill>
        <p:spPr>
          <a:xfrm>
            <a:off x="1143000" y="1371600"/>
            <a:ext cx="6280200" cy="43513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2290680" y="594288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bc_21,A(current at second bus on feeder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Object 18" descr=""/>
          <p:cNvPicPr/>
          <p:nvPr/>
        </p:nvPicPr>
        <p:blipFill>
          <a:blip r:embed="rId1"/>
          <a:srcRect l="-1444" t="-2107" r="0" b="-1742"/>
          <a:stretch/>
        </p:blipFill>
        <p:spPr>
          <a:xfrm>
            <a:off x="990720" y="1143000"/>
            <a:ext cx="7086600" cy="4495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290680" y="579060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c 1a(voltage across the feedback capaci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UPQC is able to protect the distribution system from various disturbances occurring either in Fee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nsitive load is fully protected against sag/swell and interrup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presence of IUPQC the performance of the system is impr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6600" spc="-1" strike="noStrike">
                <a:solidFill>
                  <a:srgbClr val="ff9900"/>
                </a:solidFill>
                <a:latin typeface="Comic Sans MS"/>
              </a:rPr>
              <a:t>TH</a:t>
            </a:r>
            <a:r>
              <a:rPr b="1" lang="en-US" sz="6600" spc="-1" strike="noStrike">
                <a:solidFill>
                  <a:srgbClr val="00b0f0"/>
                </a:solidFill>
                <a:latin typeface="Comic Sans MS"/>
              </a:rPr>
              <a:t>AN</a:t>
            </a:r>
            <a:r>
              <a:rPr b="1" lang="en-US" sz="6600" spc="-1" strike="noStrike">
                <a:solidFill>
                  <a:srgbClr val="00b050"/>
                </a:solidFill>
                <a:latin typeface="Comic Sans MS"/>
              </a:rPr>
              <a:t>KQ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Diagram 4" descr=""/>
          <p:cNvPicPr/>
          <p:nvPr/>
        </p:nvPicPr>
        <p:blipFill>
          <a:blip r:embed="rId1"/>
          <a:stretch/>
        </p:blipFill>
        <p:spPr>
          <a:xfrm>
            <a:off x="835200" y="2206800"/>
            <a:ext cx="805968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S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improve the power quality of two feeders in a distribution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new connection for a Unified Power Quality Conditioner (UPQC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vice (IUPQC) is connected between two feeders coming from different subs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for improving the power 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AFFECTING POWER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arm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Notc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S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Sw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Flic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rans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SINGLE  LINE DIAGRAM OF IUPQ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STRUCTURE OF IUPQ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500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TYPICAL IUPQC CONNECTED IN DISTRIBUTION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382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UNT CONNECTED V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809720" y="1905120"/>
            <a:ext cx="5524560" cy="4038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055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IES CONNECTED V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886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1:39Z</dcterms:created>
  <dc:creator>shruthi</dc:creator>
  <dc:description/>
  <dc:language>en-US</dc:language>
  <cp:lastModifiedBy>rainbow9</cp:lastModifiedBy>
  <dcterms:modified xsi:type="dcterms:W3CDTF">2010-09-03T12:53:43Z</dcterms:modified>
  <cp:revision>14</cp:revision>
  <dc:subject/>
  <dc:title>A PROJECT REPORT ON  INTER LINE UNIFIED POWER QUALITY CONDITIONER                  </dc:title>
</cp:coreProperties>
</file>